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8E2-6369-4B27-A620-6B320148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5D2-9DD2-49FF-BA3A-FD899973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AFD-5F11-472E-AAA2-F93864D5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471-8623-415E-B18E-2FD3AC95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EAD-BFA8-4048-823E-D1612734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672-4CF8-4691-8DE9-03C4A1BD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72F-984C-4D9A-8FE6-BD157F75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94A-325F-4F07-B3BD-E1469D9A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EFF-1920-4682-9AC9-3E646F8E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FC3-4BA8-42D3-9BD5-50557F6C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704-8D72-4D0C-A119-9358DDC4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0FD8-9803-4F0F-B13D-C0423061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8CF3-F125-4901-ADF3-CEFB6A079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%20piokula@p.lodz.pl" TargetMode="External"/><Relationship Id="rId2" Type="http://schemas.openxmlformats.org/officeDocument/2006/relationships/hyperlink" Target="mailto:%20marian.gradkowski@itee.radom.pl" TargetMode="External"/><Relationship Id="rId3" Type="http://schemas.openxmlformats.org/officeDocument/2006/relationships/hyperlink" Target="mailto:%20splaza@uni.lodz.pl" TargetMode="External"/><Relationship Id="rId4" Type="http://schemas.openxmlformats.org/officeDocument/2006/relationships/hyperlink" Target="mailto:%20jgawlik@mech.pk.edu.pl" TargetMode="External"/><Relationship Id="rId5" Type="http://schemas.openxmlformats.org/officeDocument/2006/relationships/hyperlink" Target="mailto:%20Wojciech.Wieleba@pwr.wroc.pl" TargetMode="External"/><Relationship Id="rId6" Type="http://schemas.openxmlformats.org/officeDocument/2006/relationships/hyperlink" Target="mailto:%20Wojciech.Wieleba@pwr.wroc.pl" TargetMode="External"/><Relationship Id="rId7" Type="http://schemas.openxmlformats.org/officeDocument/2006/relationships/image" Target="../media/image3.wmf"/><Relationship Id="rId8" Type="http://schemas.openxmlformats.org/officeDocument/2006/relationships/image" Target="../media/image1.jpeg"/><Relationship Id="rId9" Type="http://schemas.openxmlformats.org/officeDocument/2006/relationships/hyperlink" Target="mailto:%20marian.gradkowski@itee.radom.pl" TargetMode="External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_ITeE-PIB_zal_1e" descr=""/>
          <p:cNvPicPr/>
          <p:nvPr/>
        </p:nvPicPr>
        <p:blipFill>
          <a:blip r:embed="rId1"/>
          <a:stretch/>
        </p:blipFill>
        <p:spPr>
          <a:xfrm>
            <a:off x="7380360" y="1844640"/>
            <a:ext cx="138096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108000" y="2060640"/>
          <a:ext cx="8281800" cy="1339920"/>
        </p:xfrm>
        <a:graphic>
          <a:graphicData uri="http://schemas.openxmlformats.org/drawingml/2006/table">
            <a:tbl>
              <a:tblPr/>
              <a:tblGrid>
                <a:gridCol w="2151000"/>
                <a:gridCol w="4003560"/>
                <a:gridCol w="2127240"/>
              </a:tblGrid>
              <a:tr h="151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Warsztaty Tribologicz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TRIBOCHEM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Radom, 29.05.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-144360" y="273240"/>
            <a:ext cx="92883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LSKIE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WARZYSTWO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IBOLOG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INSTYTUT TECHNOLOGII EKSPLOATACJI – PAŃSTWOWY INSTYTUT BADAWC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tt" descr="The Polish Society of Tribology"/>
          <p:cNvPicPr/>
          <p:nvPr/>
        </p:nvPicPr>
        <p:blipFill>
          <a:blip r:embed="rId2"/>
          <a:stretch/>
        </p:blipFill>
        <p:spPr>
          <a:xfrm>
            <a:off x="179280" y="1844640"/>
            <a:ext cx="1381320" cy="12495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miejsce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Tematyka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Organizatorzy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Kontakt 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Data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Łódź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TARCIE W POLU MAGNETYCZNYM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PTT oraz Politechnika Łódzka 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0099cc"/>
                </a:solidFill>
                <a:uFillTx/>
                <a:latin typeface="Arial"/>
              </a:rPr>
              <a:t>Prof. Jan Burcan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27.03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Łódź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INŻYNIERIA MATERIAŁOWA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PTT oraz Politechnika Łódzka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l-P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f. Piotr Kula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22.04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Radom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TRIBOCHEMIA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PTT oraz ITeE-PIB Radom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l-P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r Marian Grądkowski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29.05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Łódź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NOTRIBOLOGI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TT oraz Uniwersytet Łódzki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of. Stanisław Płaz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17.06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Kraków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KUSTYCZNA EMISJA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TRIBODIAGNOSTYCE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TT oraz Politechnika Krakowsk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of. Józef Gawlik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3.10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Wrocław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MULACJA KOMPUTEROWA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TRIBOLOGII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TT oraz Politechnika Wrocławsk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of. Wojciech </a:t>
            </a:r>
            <a:r>
              <a:rPr b="0" lang="pl-PL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eleb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27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3213000"/>
            <a:ext cx="8713800" cy="360360"/>
          </a:xfrm>
          <a:prstGeom prst="rect">
            <a:avLst/>
          </a:prstGeom>
          <a:solidFill>
            <a:srgbClr val="00ccff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00360" y="981000"/>
            <a:ext cx="36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ARSZTATY TRIBOLOGICZ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 roku 20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24000" y="620640"/>
            <a:ext cx="1128600" cy="94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108000" y="-242640"/>
            <a:ext cx="9288360" cy="8359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OLSKIE TOWARZYSTWO TRIBOLOG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INSTYTUT TECHNOLOGII EKSPLOATACJI – PAŃSTWOWY INSTYTUT BADAWC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_ITeE-PIB_zal_1e" descr=""/>
          <p:cNvPicPr/>
          <p:nvPr/>
        </p:nvPicPr>
        <p:blipFill>
          <a:blip r:embed="rId8"/>
          <a:stretch/>
        </p:blipFill>
        <p:spPr>
          <a:xfrm>
            <a:off x="7667640" y="692280"/>
            <a:ext cx="1093680" cy="920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235920" y="3197160"/>
            <a:ext cx="24379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r Marian Grądk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tt" descr="The Polish Society of Tribology"/>
          <p:cNvPicPr/>
          <p:nvPr/>
        </p:nvPicPr>
        <p:blipFill>
          <a:blip r:embed="rId1"/>
          <a:stretch/>
        </p:blipFill>
        <p:spPr>
          <a:xfrm>
            <a:off x="0" y="743040"/>
            <a:ext cx="1380960" cy="11048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53" name="logo_ITeE-PIB_zal_1e" descr=""/>
          <p:cNvPicPr/>
          <p:nvPr/>
        </p:nvPicPr>
        <p:blipFill>
          <a:blip r:embed="rId2"/>
          <a:stretch/>
        </p:blipFill>
        <p:spPr>
          <a:xfrm>
            <a:off x="7380360" y="692280"/>
            <a:ext cx="1380960" cy="11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1332000" y="260280"/>
          <a:ext cx="5897520" cy="1065240"/>
        </p:xfrm>
        <a:graphic>
          <a:graphicData uri="http://schemas.openxmlformats.org/drawingml/2006/table">
            <a:tbl>
              <a:tblPr/>
              <a:tblGrid>
                <a:gridCol w="1531800"/>
                <a:gridCol w="2851200"/>
                <a:gridCol w="1514520"/>
              </a:tblGrid>
              <a:tr h="106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Warsztaty Tribologiczne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 TRIBOCH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Radom, 29.05.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-1476360" y="1775160"/>
            <a:ext cx="9853560" cy="47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79560" indent="-261720">
              <a:tabLst>
                <a:tab algn="l" pos="0"/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lnSpc>
                <a:spcPct val="100000"/>
              </a:lnSpc>
              <a:tabLst>
                <a:tab algn="l" pos="0"/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eferaty wprowadzające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10</a:t>
            </a:r>
            <a:r>
              <a:rPr b="1" lang="pl-PL" sz="1400" spc="-1" strike="noStrike" u="sng" baseline="30000">
                <a:solidFill>
                  <a:srgbClr val="0000ff"/>
                </a:solidFill>
                <a:uFillTx/>
                <a:latin typeface="Verdana"/>
                <a:ea typeface="Times New Roman"/>
              </a:rPr>
              <a:t>00</a:t>
            </a:r>
            <a:r>
              <a:rPr b="1" lang="pl-PL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÷11</a:t>
            </a:r>
            <a:r>
              <a:rPr b="1" lang="pl-PL" sz="1400" spc="-1" strike="noStrike" u="sng" baseline="30000">
                <a:solidFill>
                  <a:srgbClr val="0000ff"/>
                </a:solidFill>
                <a:uFillTx/>
                <a:latin typeface="Verdana"/>
                <a:ea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tabLst>
                <a:tab algn="l" pos="0"/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ozpoczęcie warsztatów –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ian Szczer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dania tribochemiczne i tribologiczne w ITeE-PIB –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arosław Molenda, Witold Piekoszow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ecne kierunki badawcze w zakresie tribochemii i tribokatalizy –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zesław Kaj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effect of model compounds on load-carrying capacity of a-C:H:W coated elements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chaela Vlad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, Remigiusz Michalczew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lnSpc>
                <a:spcPct val="100000"/>
              </a:lnSpc>
              <a:tabLst>
                <a:tab algn="l" pos="0"/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rzerwa na kawę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11</a:t>
            </a:r>
            <a:r>
              <a:rPr b="1" lang="pl-PL" sz="1400" spc="-1" strike="noStrike" u="sng" baseline="30000">
                <a:solidFill>
                  <a:srgbClr val="0000ff"/>
                </a:solidFill>
                <a:uFillTx/>
                <a:latin typeface="Verdana"/>
                <a:ea typeface="Times New Roman"/>
              </a:rPr>
              <a:t>30</a:t>
            </a:r>
            <a:r>
              <a:rPr b="1" lang="pl-PL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÷11</a:t>
            </a:r>
            <a:r>
              <a:rPr b="1" lang="pl-PL" sz="1400" spc="-1" strike="noStrike" u="sng" baseline="30000">
                <a:solidFill>
                  <a:srgbClr val="0000ff"/>
                </a:solidFill>
                <a:uFillTx/>
                <a:latin typeface="Verdana"/>
                <a:ea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lnSpc>
                <a:spcPct val="100000"/>
              </a:lnSpc>
              <a:tabLst>
                <a:tab algn="l" pos="0"/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eferaty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11</a:t>
            </a:r>
            <a:r>
              <a:rPr b="1" lang="pl-PL" sz="1400" spc="-1" strike="noStrike" u="sng" baseline="30000">
                <a:solidFill>
                  <a:srgbClr val="0000ff"/>
                </a:solidFill>
                <a:uFillTx/>
                <a:latin typeface="Verdana"/>
                <a:ea typeface="Times New Roman"/>
              </a:rPr>
              <a:t>45</a:t>
            </a:r>
            <a:r>
              <a:rPr b="1" lang="pl-PL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÷12</a:t>
            </a:r>
            <a:r>
              <a:rPr b="1" lang="pl-PL" sz="1400" spc="-1" strike="noStrike" u="sng" baseline="30000">
                <a:solidFill>
                  <a:srgbClr val="0000ff"/>
                </a:solidFill>
                <a:uFillTx/>
                <a:latin typeface="Verdana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ibochemiczne przemiany węglowodorów w warunkach tarcia mieszanego –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nika Makowsk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ian Grądkow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mentalna identyfikacja struktury chemicznej warstw wierzchnich i granicznych –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arosław Mol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tabLst>
                <a:tab algn="l" pos="0"/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lnSpc>
                <a:spcPct val="100000"/>
              </a:lnSpc>
              <a:tabLst>
                <a:tab algn="l" pos="0"/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rezentacja Laboratoriów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12</a:t>
            </a:r>
            <a:r>
              <a:rPr b="1" lang="pl-PL" sz="1400" spc="-1" strike="noStrike" u="sng" baseline="30000">
                <a:solidFill>
                  <a:srgbClr val="0000ff"/>
                </a:solidFill>
                <a:uFillTx/>
                <a:latin typeface="Verdana"/>
                <a:ea typeface="Times New Roman"/>
              </a:rPr>
              <a:t>30</a:t>
            </a:r>
            <a:r>
              <a:rPr b="1" lang="pl-PL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÷14</a:t>
            </a:r>
            <a:r>
              <a:rPr b="1" lang="pl-PL" sz="1400" spc="-1" strike="noStrike" u="sng" baseline="30000">
                <a:solidFill>
                  <a:srgbClr val="0000ff"/>
                </a:solidFill>
                <a:uFillTx/>
                <a:latin typeface="Verdana"/>
                <a:ea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9999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1" lang="pl-PL" sz="1400" spc="-1" strike="noStrike">
                <a:solidFill>
                  <a:srgbClr val="009999"/>
                </a:solidFill>
                <a:latin typeface="Arial"/>
                <a:ea typeface="Times New Roman"/>
              </a:rPr>
              <a:t>Laboratoria Zakładu Technologii Proekologicznyc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arosław Mol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9999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1" lang="pl-PL" sz="1400" spc="-1" strike="noStrike">
                <a:solidFill>
                  <a:srgbClr val="009999"/>
                </a:solidFill>
                <a:latin typeface="Arial"/>
                <a:ea typeface="Times New Roman"/>
              </a:rPr>
              <a:t>Laboratorium Badań Tribologicznyc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told Piekoszew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tabLst>
                <a:tab algn="l" pos="0"/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848040" y="2957400"/>
          <a:ext cx="144792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8040" y="2957400"/>
                    <a:ext cx="14479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-252360" y="-720720"/>
            <a:ext cx="9577440" cy="757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340000" y="-316080"/>
            <a:ext cx="3168720" cy="218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00080" y="428760"/>
            <a:ext cx="2388960" cy="337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rof. Czesław KAJ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31600" y="765000"/>
            <a:ext cx="41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www.tribologia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44360" y="0"/>
            <a:ext cx="92883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LSKIE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WARZYSTWO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BOLOGICZ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tt" descr="The Polish Society of Tribology"/>
          <p:cNvPicPr/>
          <p:nvPr/>
        </p:nvPicPr>
        <p:blipFill>
          <a:blip r:embed="rId1"/>
          <a:stretch/>
        </p:blipFill>
        <p:spPr>
          <a:xfrm>
            <a:off x="108000" y="692280"/>
            <a:ext cx="1380960" cy="12492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81360" y="1436760"/>
            <a:ext cx="7227720" cy="5421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10440" y="2492280"/>
            <a:ext cx="184356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a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 Jerzy Koryc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600" y="3286080"/>
            <a:ext cx="179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sekretarz@tribologia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1:44:17Z</dcterms:created>
  <dc:creator>ms</dc:creator>
  <dc:description/>
  <dc:language>en-US</dc:language>
  <cp:lastModifiedBy>gradkwm</cp:lastModifiedBy>
  <dcterms:modified xsi:type="dcterms:W3CDTF">2008-06-09T12:05:29Z</dcterms:modified>
  <cp:revision>21</cp:revision>
  <dc:subject/>
  <dc:title> miejsce  Tematyka  Organizatorzy  Kontakt    Data         Łódź TARCIE W POLU MAGNE-TYCZNYM PTT oraz Politechnika Łódzka  Prof. Jan Burcan  27.03  Łódź INŻYNIERIA MATERIAŁOWA PTT oraz Politechnika Łódzka Prof. Piotr Kula  22.04  Radom TRIBOCHEMIA  PTT oraz ITeE-PIB Radom  Dr Marian Grądkowski  29.05  Łódź NANO-TRIBOLOGIA  PTT oraz Uniwersytet Łódzki Prof. Stanisław Płaza  17.06  Kraków AKUSTYCZNA EMISJA   W TRIBODIAGNOSTYCE  PTT oraz Politechnika Krakowska Prof. Józef Gawlik  23.10   Wrocław SYMULACJA KOMPUTEROWA   W TRIBOLOGII  PTT oraz Politechnika Wrocławska Prof. Wojciech Wieleba   27.11</dc:title>
</cp:coreProperties>
</file>