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A6E-F8F6-4D35-9093-9EEE0838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0C1-633B-48B4-A741-1C0842F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093-A694-47CA-8FBE-F94FB93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25B-9648-489B-BD57-1EBF944E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F00-5D97-44D2-A78D-CB963F4A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2C7-44BA-475C-BF4D-5D99E96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2F2-CF41-4139-8B42-7050F14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8CC-4AB1-42A8-94EC-A9E7F10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5BD-A0E3-423B-A206-32F0ED34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91E-3DB3-4E33-836C-D245BBC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F19-FD16-4D67-BAF9-C27C4D7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32F-A812-4FCA-9942-A8A6F39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3298-4227-4A7E-9135-3E56FD280D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ojciechowicz"/>
          <p:cNvPicPr/>
          <p:nvPr/>
        </p:nvPicPr>
        <p:blipFill>
          <a:blip r:embed="rId1"/>
          <a:stretch/>
        </p:blipFill>
        <p:spPr>
          <a:xfrm>
            <a:off x="971640" y="981000"/>
            <a:ext cx="2500200" cy="302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Rectangle 6"/>
          <p:cNvSpPr/>
          <p:nvPr/>
        </p:nvSpPr>
        <p:spPr>
          <a:xfrm>
            <a:off x="1440" y="10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225320" y="988200"/>
            <a:ext cx="3885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olesław WOJCIECHOWI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ży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Photo" descr="Image Dictionary 0097 - Malowane kwiaty - FotoKMB"/>
          <p:cNvPicPr/>
          <p:nvPr/>
        </p:nvPicPr>
        <p:blipFill>
          <a:blip r:embed="rId2"/>
          <a:stretch/>
        </p:blipFill>
        <p:spPr>
          <a:xfrm rot="3773400">
            <a:off x="1406520" y="4010760"/>
            <a:ext cx="1089000" cy="2290680"/>
          </a:xfrm>
          <a:prstGeom prst="rect">
            <a:avLst/>
          </a:prstGeom>
          <a:ln w="0">
            <a:noFill/>
          </a:ln>
        </p:spPr>
      </p:pic>
      <p:sp>
        <p:nvSpPr>
          <p:cNvPr id="45" name="pole tekstowe 7"/>
          <p:cNvSpPr/>
          <p:nvPr/>
        </p:nvSpPr>
        <p:spPr>
          <a:xfrm>
            <a:off x="4095000" y="4941720"/>
            <a:ext cx="44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ześć Jego pamięci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Łącznik prosty 9"/>
          <p:cNvSpPr/>
          <p:nvPr/>
        </p:nvSpPr>
        <p:spPr>
          <a:xfrm flipV="1">
            <a:off x="971640" y="2349360"/>
            <a:ext cx="2520720" cy="16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9:10:02Z</dcterms:created>
  <dc:creator>ms</dc:creator>
  <dc:description/>
  <dc:language>en-US</dc:language>
  <cp:lastModifiedBy>ms</cp:lastModifiedBy>
  <dcterms:modified xsi:type="dcterms:W3CDTF">2010-10-29T09:10:57Z</dcterms:modified>
  <cp:revision>1</cp:revision>
  <dc:subject/>
  <dc:title>Slajd 1</dc:title>
</cp:coreProperties>
</file>