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FE03-FB9E-4252-9C8B-29774308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12D6-9211-4765-A945-CC92BD5B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31C5-57BC-4B91-991D-EDD343EAD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16B7-3D28-4A7C-B97C-3144EF055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6843-BF28-4505-A0A0-4D739EC5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D32F-5E97-4494-8A92-8062956E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68E0-25A4-4A24-BBD8-AF66EA93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A2DB-22F6-41BF-8114-347C6022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DF56-C6C1-4D70-8D79-D2882397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39ED-1760-4C20-BFFE-9160E405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CBD2-6055-447F-ABF5-0F62872B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6370-488A-45AD-ACB1-D3B9E532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DBCB-5EB6-461A-8D73-4C37F5232B3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Wojciechowicz"/>
          <p:cNvPicPr/>
          <p:nvPr/>
        </p:nvPicPr>
        <p:blipFill>
          <a:blip r:embed="rId1"/>
          <a:stretch/>
        </p:blipFill>
        <p:spPr>
          <a:xfrm>
            <a:off x="971640" y="981000"/>
            <a:ext cx="2500200" cy="3024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42" name="Rectangle 6"/>
          <p:cNvSpPr/>
          <p:nvPr/>
        </p:nvSpPr>
        <p:spPr>
          <a:xfrm>
            <a:off x="1440" y="101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4225320" y="988200"/>
            <a:ext cx="38854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es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Bolesław WOJCIECHOWIC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nie ży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oPhoto" descr="Image Dictionary 0097 - Malowane kwiaty - FotoKMB"/>
          <p:cNvPicPr/>
          <p:nvPr/>
        </p:nvPicPr>
        <p:blipFill>
          <a:blip r:embed="rId2"/>
          <a:stretch/>
        </p:blipFill>
        <p:spPr>
          <a:xfrm rot="3773400">
            <a:off x="1406520" y="4010760"/>
            <a:ext cx="1089000" cy="2290680"/>
          </a:xfrm>
          <a:prstGeom prst="rect">
            <a:avLst/>
          </a:prstGeom>
          <a:ln w="0">
            <a:noFill/>
          </a:ln>
        </p:spPr>
      </p:pic>
      <p:sp>
        <p:nvSpPr>
          <p:cNvPr id="45" name="pole tekstowe 7"/>
          <p:cNvSpPr/>
          <p:nvPr/>
        </p:nvSpPr>
        <p:spPr>
          <a:xfrm>
            <a:off x="4095000" y="4941720"/>
            <a:ext cx="44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Cześć Jego pamięci 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Łącznik prosty 9"/>
          <p:cNvSpPr/>
          <p:nvPr/>
        </p:nvSpPr>
        <p:spPr>
          <a:xfrm flipV="1">
            <a:off x="971640" y="2349360"/>
            <a:ext cx="2520720" cy="16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09:10:02Z</dcterms:created>
  <dc:creator>ms</dc:creator>
  <dc:description/>
  <dc:language>en-US</dc:language>
  <cp:lastModifiedBy>ms</cp:lastModifiedBy>
  <dcterms:modified xsi:type="dcterms:W3CDTF">2010-10-29T09:10:57Z</dcterms:modified>
  <cp:revision>1</cp:revision>
  <dc:subject/>
  <dc:title>Slajd 1</dc:title>
</cp:coreProperties>
</file>